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B6ED-D07F-40E6-BE87-616E3E2D5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5A36-FB81-4DBC-A825-370C4AFB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2847-3238-470D-B032-1605D6941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966F-B79B-44D2-B6A3-B5E68A2DC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0E995-B638-4B41-BC21-7DF321D46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E787C-9936-4F5D-B2E0-43CD97F1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18229-7502-4396-B1C8-C4CB1235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DE912F-CB19-4745-80ED-75E45829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CED8E-368D-46A7-90A2-56C79C0F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EF1F2-28DC-4DA8-9699-216A3CEC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C785D-239B-46C4-AC7B-9A2C2F76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769A-354B-4AD8-83F1-609CC0E8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84111-5F49-4F76-9A30-BE06481A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2CCDE-EEDA-44AD-A612-0BDC42BB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CB2437-EB2C-4A3D-A611-64AF7FCA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E81F5-CD2A-4762-9D7F-D8567281E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34F9E-2CC1-45FF-97FE-9017E5166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BAF6-E6B1-4D71-8663-DA32BFC0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7FBB-4684-4DBB-9FC7-B4694B09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B128-97EC-49B8-9826-B64A010F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E578-B8B6-4029-BD0E-99B50F14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B652-675B-465C-8AFB-09B59BE9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D3EC-556F-4F70-95F5-93F4293E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6C5D-3145-4F15-9E46-F03449D7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97DB-EC47-42B0-96CA-42A6C398D6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964F-7EA5-4B17-86B7-B18F1852CE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Opener: Day 1 MSA Review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nit 6: Geomet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ive: Students will identify and describe the parts of a cir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ircumference (C): the distance around a circle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ircumference = pi ● diameter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l-GR" sz="3600" spc="-1" strike="noStrike">
                <a:solidFill>
                  <a:srgbClr val="ffffff"/>
                </a:solidFill>
                <a:latin typeface="Comic Sans MS"/>
              </a:rPr>
              <a:t>π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ircumference = 2 ● pi ● radiu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l-GR" sz="3600" spc="-1" strike="noStrike">
                <a:solidFill>
                  <a:srgbClr val="ffffff"/>
                </a:solidFill>
                <a:latin typeface="Comic Sans MS"/>
              </a:rPr>
              <a:t>π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380880"/>
            <a:ext cx="861048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Objective:  Students will identify and describe parts of a cir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ircumfere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10040" y="2536920"/>
            <a:ext cx="231840" cy="34920"/>
          </a:xfrm>
          <a:custGeom>
            <a:avLst/>
            <a:gdLst/>
            <a:ahLst/>
            <a:rect l="l" t="t" r="r" b="b"/>
            <a:pathLst>
              <a:path w="646" h="100">
                <a:moveTo>
                  <a:pt x="11137" y="7094"/>
                </a:moveTo>
                <a:cubicBezTo>
                  <a:pt x="11259" y="7102"/>
                  <a:pt x="11341" y="7124"/>
                  <a:pt x="11460" y="7094"/>
                </a:cubicBezTo>
                <a:cubicBezTo>
                  <a:pt x="11575" y="7094"/>
                  <a:pt x="11097" y="7094"/>
                  <a:pt x="11212" y="7094"/>
                </a:cubicBezTo>
                <a:cubicBezTo>
                  <a:pt x="11253" y="7094"/>
                  <a:pt x="11295" y="7094"/>
                  <a:pt x="11336" y="7094"/>
                </a:cubicBezTo>
                <a:cubicBezTo>
                  <a:pt x="11562" y="7094"/>
                  <a:pt x="11709" y="7095"/>
                  <a:pt x="11385" y="7119"/>
                </a:cubicBezTo>
                <a:cubicBezTo>
                  <a:pt x="11127" y="7138"/>
                  <a:pt x="11666" y="7086"/>
                  <a:pt x="11733" y="7069"/>
                </a:cubicBezTo>
                <a:cubicBezTo>
                  <a:pt x="11852" y="7039"/>
                  <a:pt x="11604" y="7091"/>
                  <a:pt x="11485" y="7119"/>
                </a:cubicBezTo>
                <a:cubicBezTo>
                  <a:pt x="11460" y="7127"/>
                  <a:pt x="11435" y="7136"/>
                  <a:pt x="11410" y="71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81800" y="3929040"/>
            <a:ext cx="419040" cy="223920"/>
          </a:xfrm>
          <a:custGeom>
            <a:avLst/>
            <a:gdLst/>
            <a:ahLst/>
            <a:rect l="l" t="t" r="r" b="b"/>
            <a:pathLst>
              <a:path w="1167" h="621">
                <a:moveTo>
                  <a:pt x="15949" y="11013"/>
                </a:moveTo>
                <a:cubicBezTo>
                  <a:pt x="15966" y="10988"/>
                  <a:pt x="15982" y="10964"/>
                  <a:pt x="15999" y="10939"/>
                </a:cubicBezTo>
                <a:cubicBezTo>
                  <a:pt x="16024" y="11122"/>
                  <a:pt x="15999" y="11338"/>
                  <a:pt x="15999" y="11534"/>
                </a:cubicBezTo>
              </a:path>
              <a:path w="1167" h="621">
                <a:moveTo>
                  <a:pt x="16421" y="10988"/>
                </a:moveTo>
                <a:cubicBezTo>
                  <a:pt x="16421" y="11130"/>
                  <a:pt x="16400" y="11268"/>
                  <a:pt x="16396" y="11410"/>
                </a:cubicBezTo>
                <a:cubicBezTo>
                  <a:pt x="16396" y="11435"/>
                  <a:pt x="16396" y="11460"/>
                  <a:pt x="16396" y="11485"/>
                </a:cubicBezTo>
              </a:path>
              <a:path w="1167" h="621">
                <a:moveTo>
                  <a:pt x="15503" y="10964"/>
                </a:moveTo>
                <a:cubicBezTo>
                  <a:pt x="15730" y="10910"/>
                  <a:pt x="15938" y="10914"/>
                  <a:pt x="16173" y="10914"/>
                </a:cubicBezTo>
                <a:cubicBezTo>
                  <a:pt x="16338" y="10914"/>
                  <a:pt x="16504" y="10914"/>
                  <a:pt x="16669" y="1091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11800" y="4902120"/>
            <a:ext cx="446040" cy="125640"/>
          </a:xfrm>
          <a:custGeom>
            <a:avLst/>
            <a:gdLst/>
            <a:ahLst/>
            <a:rect l="l" t="t" r="r" b="b"/>
            <a:pathLst>
              <a:path w="1241" h="348">
                <a:moveTo>
                  <a:pt x="12254" y="13816"/>
                </a:moveTo>
                <a:cubicBezTo>
                  <a:pt x="12289" y="13771"/>
                  <a:pt x="12321" y="13713"/>
                  <a:pt x="12378" y="13692"/>
                </a:cubicBezTo>
                <a:cubicBezTo>
                  <a:pt x="12456" y="13664"/>
                  <a:pt x="12556" y="13670"/>
                  <a:pt x="12626" y="13643"/>
                </a:cubicBezTo>
                <a:cubicBezTo>
                  <a:pt x="12676" y="13623"/>
                  <a:pt x="12760" y="13600"/>
                  <a:pt x="12824" y="13618"/>
                </a:cubicBezTo>
                <a:cubicBezTo>
                  <a:pt x="12893" y="13637"/>
                  <a:pt x="12953" y="13661"/>
                  <a:pt x="13022" y="13667"/>
                </a:cubicBezTo>
                <a:cubicBezTo>
                  <a:pt x="13098" y="13673"/>
                  <a:pt x="13159" y="13718"/>
                  <a:pt x="13221" y="13742"/>
                </a:cubicBezTo>
                <a:cubicBezTo>
                  <a:pt x="13272" y="13762"/>
                  <a:pt x="13331" y="13804"/>
                  <a:pt x="13370" y="13841"/>
                </a:cubicBezTo>
                <a:cubicBezTo>
                  <a:pt x="13422" y="13891"/>
                  <a:pt x="13438" y="13925"/>
                  <a:pt x="13494" y="139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45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45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45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45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45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Objective:  Students will identify and describe parts of a circle.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ind the circumference of the circ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1.) d = 12f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Comic Sans MS"/>
              </a:rPr>
              <a:t>π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 = circumfer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Comic Sans MS"/>
              </a:rPr>
              <a:t>π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12) =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.14(12) =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7.68f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2.) r = 8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l-GR" sz="2400" spc="-1" strike="noStrike">
                <a:solidFill>
                  <a:srgbClr val="ffffff"/>
                </a:solidFill>
                <a:latin typeface="Comic Sans MS"/>
              </a:rPr>
              <a:t>π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= circumfer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(</a:t>
            </a:r>
            <a:r>
              <a:rPr b="0" lang="el-GR" sz="2400" spc="-1" strike="noStrike">
                <a:solidFill>
                  <a:srgbClr val="ffffff"/>
                </a:solidFill>
                <a:latin typeface="Comic Sans MS"/>
              </a:rPr>
              <a:t>π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(8) =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6.28(8) =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0.24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820800" y="6089760"/>
            <a:ext cx="1009440" cy="554040"/>
          </a:xfrm>
          <a:custGeom>
            <a:avLst/>
            <a:gdLst/>
            <a:ahLst/>
            <a:rect l="l" t="t" r="r" b="b"/>
            <a:pathLst>
              <a:path w="2804" h="1539">
                <a:moveTo>
                  <a:pt x="5085" y="16917"/>
                </a:moveTo>
                <a:cubicBezTo>
                  <a:pt x="4995" y="16923"/>
                  <a:pt x="4901" y="16927"/>
                  <a:pt x="4812" y="16942"/>
                </a:cubicBezTo>
                <a:cubicBezTo>
                  <a:pt x="4740" y="16954"/>
                  <a:pt x="4723" y="16961"/>
                  <a:pt x="4663" y="17016"/>
                </a:cubicBezTo>
                <a:cubicBezTo>
                  <a:pt x="4507" y="17159"/>
                  <a:pt x="4335" y="17282"/>
                  <a:pt x="4167" y="17413"/>
                </a:cubicBezTo>
                <a:cubicBezTo>
                  <a:pt x="3908" y="17615"/>
                  <a:pt x="3641" y="17813"/>
                  <a:pt x="3398" y="18033"/>
                </a:cubicBezTo>
                <a:cubicBezTo>
                  <a:pt x="3316" y="18108"/>
                  <a:pt x="3230" y="18188"/>
                  <a:pt x="3125" y="18207"/>
                </a:cubicBezTo>
                <a:cubicBezTo>
                  <a:pt x="3062" y="18218"/>
                  <a:pt x="3015" y="18213"/>
                  <a:pt x="2952" y="18231"/>
                </a:cubicBezTo>
                <a:cubicBezTo>
                  <a:pt x="2908" y="18244"/>
                  <a:pt x="2867" y="18265"/>
                  <a:pt x="2828" y="18281"/>
                </a:cubicBezTo>
                <a:cubicBezTo>
                  <a:pt x="2793" y="18295"/>
                  <a:pt x="2736" y="18291"/>
                  <a:pt x="2704" y="18306"/>
                </a:cubicBezTo>
                <a:cubicBezTo>
                  <a:pt x="2666" y="18323"/>
                  <a:pt x="2647" y="18349"/>
                  <a:pt x="2604" y="18355"/>
                </a:cubicBezTo>
                <a:cubicBezTo>
                  <a:pt x="2563" y="18361"/>
                  <a:pt x="2546" y="18375"/>
                  <a:pt x="2505" y="18380"/>
                </a:cubicBezTo>
                <a:cubicBezTo>
                  <a:pt x="2458" y="18386"/>
                  <a:pt x="2446" y="18391"/>
                  <a:pt x="2406" y="18405"/>
                </a:cubicBezTo>
                <a:cubicBezTo>
                  <a:pt x="2378" y="18415"/>
                  <a:pt x="2338" y="18453"/>
                  <a:pt x="2332" y="18455"/>
                </a:cubicBezTo>
                <a:cubicBezTo>
                  <a:pt x="2307" y="18455"/>
                  <a:pt x="2299" y="18455"/>
                  <a:pt x="2282" y="184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mework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dius, Diameter, Circumference Workshe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20:08:12Z</dcterms:created>
  <dc:creator>TAMMY  COON</dc:creator>
  <dc:description/>
  <dc:language>en-US</dc:language>
  <cp:lastModifiedBy>demcgra</cp:lastModifiedBy>
  <dcterms:modified xsi:type="dcterms:W3CDTF">2012-02-06T20:26:46Z</dcterms:modified>
  <cp:revision>26</cp:revision>
  <dc:subject/>
  <dc:title>Unit 6: Geometry</dc:title>
</cp:coreProperties>
</file>